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09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DC041-611B-4039-9A0A-B59832536E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2F49A-18DE-40A7-8790-8714E1713F4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4ACFA-189E-402A-99A6-B72F979CC1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18DFF-C0D6-4EF3-A921-E59BB3BAB6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A3C31-D9B0-48A7-BA4C-FB1718443A3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285A5-9342-4F1F-AA3B-369AEBF9F1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10EE3-76C8-4668-B320-773F681408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1CC3E-B3E0-4F4A-AC77-6E03CD1746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A42D4-655B-44FD-AA9C-42A9E4D47B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33D04-B5D6-4BFC-9898-87B148D5FD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40CBA-289D-4474-AFDB-909031BD500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4823-F5C8-4FF5-8E17-FE33CE6839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1365-0754-440B-BE71-A3C8E16D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F203-5B98-42D0-A15C-2CFD1E55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B408-913A-4BA6-A9E3-76314F3801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0572-3BB4-4651-9013-D76EABFB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5F69-8D2F-489F-A3C9-6B44C5CA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53BD-810E-46FA-BE9C-0DE41FA6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366E-04EA-4E2C-AF1E-AC5D398F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CC91-1F92-45D5-B118-6B2DE4EE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3435-8D08-4F5A-91E4-EED31EAF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CAE0-AFBD-4EAA-997C-A6D5B066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4745-4E22-438D-BE5E-BE9676A0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2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476450-18E1-4A60-ABB9-46F0871BA7C5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71640" y="1461960"/>
            <a:ext cx="40320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 una entomóloga y botánica nacida en Nueva York en 183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só la mayor parte de su vida en Vineland, New Jers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16, volvió a Nueva York para vivir con su hermana. Murió en 1923, a los 92 años de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6920" y="836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Biografía br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771640" y="5711760"/>
            <a:ext cx="21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York, ciudad natal de Mary Davis Tre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5111640" y="828720"/>
            <a:ext cx="34196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867280" y="1440000"/>
            <a:ext cx="3240360" cy="39589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71640" y="1461960"/>
            <a:ext cx="49687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endió la teoría de la evolución de Darwin, quien a su vez alabó los trabajos de Mary Davis Treat. A pesar de dichas alabanzas, no fue reconocida por la comunidad científica, debido tan solo al hecho de ser muj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primeras publicaciones fueron detalladas descripciones de ciclos vitales de insec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de 1969 publicó 76 artículos y 5 lib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investigaciones ayudaron a muchos entomólogos a clasificar los insectos. Ella misma descubrió varias especies de insectos, arácnidos y plan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hormig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phanogaster treatia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marili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Zephyranthus treatia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cibier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nombre específico en su hon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71640" y="765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ortaciones científ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940360" y="5400720"/>
            <a:ext cx="29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rles Darwin, uno de los científicos del siglo XIX que fue capaz de apreciar el trabajo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Mary Davis Tre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971640" y="1461960"/>
            <a:ext cx="460836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o de sus más famosos trabajos fu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que realizó con larvas de mariposa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peci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apilio aster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ubrió que las larvas que comía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bundancia se desarrollaban como hembras, mientras que las que comían poco, lo hacían como mach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stigó con otras especies de mariposa y obtuvo resultados simila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rwin afirmó que sus investigaciones con las mariposas eran las mejores realizadas hasta entonces. Esto la ayudó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obtener el mérito que merecía y que tantas veces se le negó por sexism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rincipales descubr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5940360" y="4932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iposa del género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apilio,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milar a las que investigó Mary Davi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1916280"/>
            <a:ext cx="748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es fueron los primeros trabajos científicos de Mary Davis Trea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Por qué conocido científico fueron reconocida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aportaciones de esta mujer a la 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es fueron sus trabajos más notab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71640" y="1052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ctiv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25:48Z</dcterms:modified>
  <cp:revision>48</cp:revision>
  <dc:subject/>
  <dc:title>Diapositiva 1</dc:title>
</cp:coreProperties>
</file>